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44D3-3B54-480C-B1BA-BC3083D1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5742-413D-46C6-90A9-E5D5A565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33E94-DC0A-4B77-9B32-015658DF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A2F8F-DD0E-4EC1-ABDA-3F4CBB82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5722D-1D77-4F81-81A8-38432689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9D574-2E16-43F3-B920-1A3E1F61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A9E61-16B3-4ECF-B132-54727E9A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2ED39-D457-48A5-8CC4-13B0DF44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AC1DF-AA9E-4A05-96B0-BE29F164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5F07D-F6B4-4C22-8D7E-4A165BDF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D8C72-7FEC-4B6F-A8E8-2E2A7222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BF93F-2F8F-44A4-A838-F55B76C8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18E-3F9E-403C-9C2F-B874F78C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469F0-0B0D-4C69-BFDF-33724E11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2912F-9174-4A30-9666-BEA82757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043F9-B863-4A80-AD8B-91852A9B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E268A-D648-48BD-A446-7350F736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DBB6F-020A-4C12-8333-29010C99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804E2-B268-4C1C-AB42-12E80B07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0BDB8-1827-4F24-BB48-51A48D03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26FD0-8FD9-439D-8BDC-7CCE2F9C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77A9A-1C04-4AE1-9D8D-D9322BA0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96AE3-C559-4B1E-937B-CDFE35B5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4A23-484D-47F5-BC39-1D601C0C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EEA2F-FE03-439B-90A8-0687A77C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06012-623A-48F0-BDC9-23A5A68E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9E4D0-65E5-4D33-9ECB-0EAA51E0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C3C4B-FEEA-4030-B646-5B171F3C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106BB-435A-48A8-95B0-9E0252FA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DE7F8-4A9F-4198-BA47-015C1DB6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D1DD9-9C89-4D6F-8117-5D0F28FB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19E25-5D75-4D82-8400-1E00FBA2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9BEF7-5F92-4490-8BA7-DA5A2896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1E09F-27CB-4D39-8658-8CA76E17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84C1-3394-4A34-B4C5-357828B8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D627D-BE54-4586-A0BE-B7FE18FD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AB625-71FD-4EE0-B43A-52674E65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6603F-FCEC-4015-A0EB-4BFD5ED3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D5F73-9CC2-4F79-8136-397AE049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11886-6E1E-4FFB-9538-FA664007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D6C61-42E2-494D-BEC0-6F258D6F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DD949-185B-42EB-A196-AD90A36F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4C9C7-8CDC-408F-90C8-53D998AF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73355-8A09-4A7B-A205-938E710A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ED92E-0021-477C-9CDF-8176F49B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3CC8-9C03-4095-B721-835EA628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04154-376F-4464-BA35-2FFA9499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5F07F-EA66-407E-B709-ABAF5DE2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CD58C-53B8-48CB-AA5B-61BBA9F0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5F938-BA5E-4AAC-97EB-496CA3CE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D0F87-C40B-49E5-8EAC-DD2FD473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DF7D-5A43-4304-A572-960FCC69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107D-041F-4C1F-BCA9-263CF69F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7F53-E0AB-4B4A-8042-715C90D9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6CB8-493A-4ABD-96D4-6816A9D3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4A85-269C-4B06-A988-0E1400C1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969-7A28-41F4-B590-F629EB17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DD4D-FF7B-4193-931D-C7EB55BC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F47C-6BD0-4869-A272-C6D9F994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2C4E-ED1B-4565-BBFC-23F249CA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D92A-F83E-4289-BC9A-9B34E05A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35B7-6D33-4042-B6FF-3E97987E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F9AF4-CAF7-41B8-BD07-6F93AB5B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686E1-3FCE-43B2-90E5-C75CF86A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6D244-A7B2-456B-A225-FAE7E227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4FD26-2DDC-49AD-9F4F-9E35ADE5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E7A02-F7A5-4CC0-80F4-81B867B0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ED61-F761-4216-A7CF-C54F19F9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18B6D-F688-4BA4-8971-C317CC3A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85B59-78EE-4B26-9334-7B2EE74A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B27CA-E246-4242-8FD6-ABEB5A12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DC32B-900E-4E9F-9955-685FA892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53A1C-295F-44C5-A61A-FB07E34D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1607A-8FC8-4073-924B-1E6B1103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93612-91C7-4E27-A6C7-1DB68FBD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08352-0E3B-43B8-A292-AF02497E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8B380-2F6F-48DF-B260-1D6D8178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AACFE-7884-4F85-88FB-3DE22F58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9ED-30FE-45C2-8A52-5F46773B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D9059-A2AA-47F2-ADD2-36452AF6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E2108-132D-4766-9A05-82D40C73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22FF0-93D4-4B65-BFC7-6D1548D5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162A0-A116-47F5-AE48-0021F296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4ACA7-A5D3-4D0E-8600-481AB72D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10FFD-5911-4CB7-BBE3-448C3853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CBCC4-2A4E-490C-B2A1-531AF6AA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4E3CF-451F-482C-B7A5-E8BEBA50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4D43E-0263-41D1-B915-83625621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FE5F9-613A-49AA-8A4A-E4D01710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2785-EF70-4BD1-B5ED-963EF7C0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3E2E2-E375-4B8C-88FF-82B052CF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F6111-B05C-4D9A-AFFA-581F6986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BE7B5-C500-416A-9E96-52B0E724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DC5B4-D485-4104-A78A-2A8C0034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D5CDA-2679-4D9F-B5AF-93C8086E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E10C2-FE2D-425A-9E9D-335C0FCE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7E075-5F76-4A9D-94A2-36081DAA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E4426-1B47-4CC8-83F0-7340DF4F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C447A-3EB1-42CC-8B46-5F6D4152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51311-69EA-434E-AE0A-94B2B712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A50-CC79-4A97-B7D2-64F3DD82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1B6E3-B30C-45B3-BA70-D01CA073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A4591-54E9-4D20-95B2-4BCBF34C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B1E29-DF96-40DC-AB0C-3E9A02AA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97F44-0497-4846-B659-AD359067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04F45-5877-486F-99E3-B3F5CE43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235D6-8E49-4D17-BE34-27E4C899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E13BA-544E-4273-B27D-EDE6984A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CDF3F-B040-4819-A408-6346EA8B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F8253-CAC7-4FA0-BBC8-82E696FC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491C2-6ABA-4A64-95A3-DF486D5D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2990-F7BC-4C08-80D3-A45ED0BC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59B42-414A-420A-AC35-EAD3187D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914D4-48F9-4E88-B96A-8E7C54F1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D0E6B-FEFA-460E-BA8E-68FAF2C2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71165-A382-49A6-875D-C9C8A3AE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B6D95-6037-4E21-8A9C-FF609F2F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ADFAF-69C5-4D70-85F5-BB88EAE8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E74D5-28ED-4F80-A49D-DD34BBB6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2C965-596E-49F8-BE51-2D351B28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07CA5-E841-4371-8276-39C0EE1E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81FD5-DD0C-4CFF-A06D-B3BCD3EB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8ADA-EAC4-4BD9-B060-78A1EDB6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41F7A-AE49-48B0-838D-315B9C30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2F773-0962-428E-BC23-075079CD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271E1-B497-48D8-8C76-2403A5EC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D5791-D5FA-4833-98C0-027A34E6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35EAD-67C6-4DBB-91B1-4C9B5A82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BE021-2CDB-4111-8B3A-963DAD03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CE640-D3A5-447C-ACB5-AB5A5687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7B7EF-F5D1-4638-AA12-011B12E9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92329-EA60-4FAA-B562-578EF5E1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830BD-B98E-432A-951A-1AF1D0D5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2AE-6E17-4874-997B-EAA34854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3C285-6C65-4483-903B-9ED220A8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72FB8-4201-4767-A0B0-D63DCD9F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8F998-2D34-40C1-B396-AFC8440C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D66B2-1FD6-4DF9-A133-6E4E8A97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8D03E-605A-4DD2-8AE9-84724268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E1DDF-1E4F-4F50-B53E-47FA88E1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60387-C511-41E2-8B19-6C9A76AB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66720-358C-4154-A0A3-A3C49C75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73A1D-A0AA-470A-B9B6-943D4C1B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508B4-3D9B-49FE-A7D4-9D567600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F510-8CB3-466A-B3C0-6CF2E208732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5F05-DFAE-44DC-B8E3-0CFDB10A5A2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F71F-09D6-4910-A40B-E40B4EBB095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1009-8AD3-40C6-B37E-D34C78460D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27DE-218C-4BAC-92EA-FCFBF5E2A21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D5D7-713E-427D-BF26-5769B289897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6F41-ACBE-4760-93B1-C6A3A43D3C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7D8A-A8B5-475E-B9BF-BAC8EB1DBFC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9BA6-A492-4A7B-96C0-E3933D7488B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34A5-5BF6-401F-894B-75BCD43C8D1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5702-A7A7-4AD2-9C01-8A0F25023B4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3353-4EA8-4D1B-A379-62B888EE76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62 Jak víťaz letí vesmír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k víťaz letí vesmír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, vzkriesený náš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ým tajuplným priestor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, k nebies výši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žiaru telies ohnivý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sláva jeho skv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hviezdnych diaľka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onivý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u Haleluja! z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v sláve neba prebý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predsa blízko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á Hviezda večne žiariv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šíri mieru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uh tvorst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sa začí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všetko má stred svo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vety diaľne pohý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život náš má zdroj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5-15T08:07:27Z</dcterms:modified>
  <cp:revision>37</cp:revision>
  <dc:subject/>
  <dc:title>Je veľký náš Pán, on slávy je Kráľ Nech do všetkých strán  spev vrúcnych znie chvál.</dc:title>
</cp:coreProperties>
</file>